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DEDD-2451-45F2-9E77-A24DAAB75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0F57-693F-435A-BFD5-F5413EFE6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E95E-E702-45B9-A78C-3A866CA4C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2A5B-59CC-44F8-9B1D-988E51B41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DBDC-868B-41F7-BC1D-713667390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0843-9C4A-47B9-B1FD-E89EC12EC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9B9D-7F3E-4C74-8285-444861EA7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F7EA-6B9A-4642-B328-4AD8C45E5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6476-5920-4FAA-9F1F-E6D6F021B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F52B-02F5-465F-95FD-CD3963F2E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A195-872F-4A10-B4B7-1CCB1D0CD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1EA4-FB85-49A4-B345-B7B904DE7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B585-A0D0-4971-BDCF-B1C9FDA6A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0C06-EA08-40FF-88C3-3F575D215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3514-7D55-442F-98D0-3D8E10902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B296-6E16-4718-A2A2-F6C850397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F8C3-7CA6-4868-B581-ED4BD453D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8F65-B077-4EC8-B0D4-B3A88F1D9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6200-2CA7-4123-B646-8AC6EAB38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8CD5-E8FB-4CC3-B3AE-11927FE23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D89B-FFE9-47D5-B520-FE3B2D4C2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363A3-6BBD-4B17-B551-07FF1081DD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F449B-DE84-4FF7-8D46-B674A22D80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4FF0D-17D9-4771-A392-0C560BDB63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D1E79-E3DB-45F5-ACE2-B64BF65EE2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5EAED-382A-4C63-B4BB-7EE4FF028B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F75B5-3E4B-4708-83BC-333FF97AEF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28012-7BC5-4A7A-ADCD-78C9957556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62F1B-9249-48AD-8057-3B10E25CB9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7A92D-A3E7-4E3F-9038-0C1DD1B167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D0E47-DBA5-4491-BD75-2422A5F43E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5DE21-FF21-4EB9-9FFF-75EDE4ED3B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86F53-99F0-4D0E-B75C-F93C583D5B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360" y="6244920"/>
            <a:ext cx="590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tre de la présentation   </a:t>
            </a:r>
            <a:fld id="{744BAF61-7D78-493E-B0AA-B241BFE33E30}" type="datetime">
              <a:rPr b="0" lang="fr-CA" sz="1000" spc="-1" strike="noStrike">
                <a:solidFill>
                  <a:srgbClr val="000000"/>
                </a:solidFill>
                <a:latin typeface="Arial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FF94-66B5-443A-92D3-E26B123125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accessavoirs.net/" TargetMode="External"/><Relationship Id="rId3" Type="http://schemas.openxmlformats.org/officeDocument/2006/relationships/hyperlink" Target="http://www.ctreq.qc.ca/" TargetMode="External"/><Relationship Id="rId4" Type="http://schemas.openxmlformats.org/officeDocument/2006/relationships/hyperlink" Target="http://www.rire.ctreq.qc.ca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Accès savoi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4360" y="1844640"/>
            <a:ext cx="77752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78a9"/>
                </a:solidFill>
                <a:latin typeface="Arial"/>
              </a:rPr>
              <a:t>Vers une boutique de sciences en é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84360" y="352440"/>
            <a:ext cx="35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ACFAS – 11 mai 2011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84360" y="2421000"/>
            <a:ext cx="777528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00"/>
                </a:solidFill>
                <a:latin typeface="Arial"/>
              </a:rPr>
              <a:t>Linda St-Pierre, Présidente-directrice générale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00"/>
                </a:solidFill>
                <a:latin typeface="Arial"/>
              </a:rPr>
              <a:t>Centre de transfert pour la réussite éducative (CTREQ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4672-A2C0-4354-8087-23B45E3348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8a9"/>
                </a:solidFill>
                <a:latin typeface="Arial"/>
              </a:rPr>
              <a:t>Types de demand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ynthèse des connaissances sur un thème précis (recherche documentai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cherche et analyse critique de docu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éalisation d’une consul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Évaluation d’un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ception et réalisation d’un plan ou d’un produ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Espace réservé du pied de page 3"/>
          <p:cNvSpPr/>
          <p:nvPr/>
        </p:nvSpPr>
        <p:spPr>
          <a:xfrm>
            <a:off x="46836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FAS – Boutique de sciences en réussite éducative - CTREQ - 11 mai 2011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146C-B624-4A0D-A05C-CB0F434082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282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8a9"/>
                </a:solidFill>
                <a:latin typeface="Arial"/>
              </a:rPr>
              <a:t>Exemples de mandats effectués par d’autres boutiques de science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03640"/>
            <a:ext cx="82296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ynthèse de travaux sur l’hyperactivité et la vie de cla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ilan des meilleurs pratiques face au syndrome d’Asper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ception d’une formation adaptée aux personnes sans ab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ception d’un logiciel simple de contrôle parental d’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space réservé du pied de page 3"/>
          <p:cNvSpPr/>
          <p:nvPr/>
        </p:nvSpPr>
        <p:spPr>
          <a:xfrm>
            <a:off x="46836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FAS – Boutique de sciences en réussite éducative - CTREQ - 11 mai 2011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0193-77FD-4812-A02A-280B365FCD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282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8a9"/>
                </a:solidFill>
                <a:latin typeface="Arial"/>
              </a:rPr>
              <a:t>Exemples de mandats recueillis sur Accès savoir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303640"/>
            <a:ext cx="82296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éduc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terventions gagnantes à développer pour des jeunes souffrant d’anxiété (en classe, école et par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vis sur le plan d’évaluation, l’outil et le traitement des données – effet du développement des caractéristiques entrepreneuriales chez les élè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ce réservé du pied de page 3"/>
          <p:cNvSpPr/>
          <p:nvPr/>
        </p:nvSpPr>
        <p:spPr>
          <a:xfrm>
            <a:off x="46836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FAS – Boutique de sciences en réussite éducative - CTREQ - 11 mai 2011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B40B-993C-4022-89EB-E88B596B38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0663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8a9"/>
                </a:solidFill>
                <a:latin typeface="Arial"/>
              </a:rPr>
              <a:t>Contribution du CTREQ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Établissement d’un lien de conf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ccompagnement des organisations dans la précision des deman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édiation entre l’étudiant et l’organ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ccompagnement des étudiants dans le transfert (formation, choix des stratégies et canaux de commun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llaboration à la promotion, dif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space réservé du pied de page 3"/>
          <p:cNvSpPr/>
          <p:nvPr/>
        </p:nvSpPr>
        <p:spPr>
          <a:xfrm>
            <a:off x="46836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FAS – Boutique de sciences en réussite éducative - CTREQ - 11 mai 2011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C425-778B-413B-AB45-CD64E4B21D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0663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8a9"/>
                </a:solidFill>
                <a:latin typeface="Arial"/>
              </a:rPr>
              <a:t>Défi en éducation - Convainc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vaincre les écoles et autres groupes qu’une telle démarche peut réellement aider leur pra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vaincre les chercheurs et les étudia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vaincre l’universit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la pertinence d’inclure ces projets dans la formation des étudiants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crédits de c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reconnaître la participation des chercheur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ce réservé du pied de page 3"/>
          <p:cNvSpPr/>
          <p:nvPr/>
        </p:nvSpPr>
        <p:spPr>
          <a:xfrm>
            <a:off x="46836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FAS – Boutique de sciences en réussite éducative - CTREQ - 11 mai 2011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786A-7A7A-4CEB-9D29-0B652328A9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0663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8a9"/>
                </a:solidFill>
                <a:latin typeface="Arial"/>
              </a:rPr>
              <a:t>Actions en cou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4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« petite » équipe qui se met en place progressi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estion et relations avec les organisations de la communau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campagne d’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naissance d’Accès savo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ffusion sur Internet et dans le monde scientifi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isibilité des travaux sur le site d’Accès savoirs et lien par le R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istence d’un réseau d’app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artenaires – à ven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space réservé du pied de page 3"/>
          <p:cNvSpPr/>
          <p:nvPr/>
        </p:nvSpPr>
        <p:spPr>
          <a:xfrm>
            <a:off x="46836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FAS – Boutique de sciences en réussite éducative - CTREQ - 11 mai 2011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C0DC-0DC2-4590-B792-FD77AE2BF0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0663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3600" spc="-1" strike="noStrike">
              <a:solidFill>
                <a:srgbClr val="0078a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Espace réservé du pied de page 3"/>
          <p:cNvSpPr/>
          <p:nvPr/>
        </p:nvSpPr>
        <p:spPr>
          <a:xfrm>
            <a:off x="46836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FAS – Boutique de sciences en réussite éducative - CTREQ - 11 mai 2011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DE6F-CD6C-45DA-9683-DAA3EDB337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1383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8a9"/>
                </a:solidFill>
                <a:latin typeface="Arial"/>
              </a:rPr>
              <a:t>Avantages pour les étudia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veloppement de compé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ise à profit de connaissa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cherche de solutions en lien avec des problématiques ré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xpérimentation, en début de carrière, d’un mécanisme de transfert des connaissa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amiliarisation avec la pluridisciplina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entiment d’ut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pied de page 3"/>
          <p:cNvSpPr/>
          <p:nvPr/>
        </p:nvSpPr>
        <p:spPr>
          <a:xfrm>
            <a:off x="46836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FAS – Boutique de sciences en réussite éducative - CTREQ - 11 mai 2011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4CE1-7643-48D3-BB2C-14E5029233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0663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8a9"/>
                </a:solidFill>
                <a:latin typeface="Arial"/>
              </a:rPr>
              <a:t>Avantages pour les organis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les organisations qui font appel au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pacité d’analyse accrue et de réflexion sur la pra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Qualité accrue des services off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la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struction d’un réservoir de connaissances pouvant être utiles dans d’autres contex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ource de débats de société impor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fluence possible sur le débat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pied de page 3"/>
          <p:cNvSpPr/>
          <p:nvPr/>
        </p:nvSpPr>
        <p:spPr>
          <a:xfrm>
            <a:off x="46836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FAS – Boutique de sciences en réussite éducative - CTREQ - 11 mai 2011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278A-42D7-497C-9688-8F352ED0FA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282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8a9"/>
                </a:solidFill>
                <a:latin typeface="Arial"/>
              </a:rPr>
              <a:t>Avantages pour l’université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uvelles pistes de connaissances susceptibles d’intéresser les chercheurs professio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ribution à sa stratégie sociale et communau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réation de nouveaux programmes de recherche et d’enseign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uvelles publications scientifiques réalisé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r des étudi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pied de page 3"/>
          <p:cNvSpPr/>
          <p:nvPr/>
        </p:nvSpPr>
        <p:spPr>
          <a:xfrm>
            <a:off x="46836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FAS – Boutique de sciences en réussite éducative - CTREQ - 11 mai 2011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Espace réservé du pied de page 3"/>
          <p:cNvSpPr/>
          <p:nvPr/>
        </p:nvSpPr>
        <p:spPr>
          <a:xfrm>
            <a:off x="46836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FAS – Boutique de sciences en réussite éducative- CTREQ – 11 mai 2011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1102-FFFA-462F-9161-74038F428D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8a9"/>
                </a:solidFill>
                <a:latin typeface="Arial"/>
              </a:rPr>
              <a:t>Qu’est-ce que le CTREQ 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Rectangle 3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8064360" cy="5256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FB86-E757-40DE-8A80-FFE342A36D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282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8a9"/>
                </a:solidFill>
                <a:latin typeface="Arial"/>
              </a:rPr>
              <a:t>Avantages pour les </a:t>
            </a:r>
            <a:br>
              <a:rPr sz="3600"/>
            </a:br>
            <a:r>
              <a:rPr b="1" lang="fr-FR" sz="3600" spc="-1" strike="noStrike">
                <a:solidFill>
                  <a:srgbClr val="0078a9"/>
                </a:solidFill>
                <a:latin typeface="Arial"/>
              </a:rPr>
              <a:t>Sciences de l’édu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approchement avec d’autres discip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alorisation de l’innovation soc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approchement entre théorie et pra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ce réservé du pied de page 3"/>
          <p:cNvSpPr/>
          <p:nvPr/>
        </p:nvSpPr>
        <p:spPr>
          <a:xfrm>
            <a:off x="46836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FAS – Boutique de sciences en réussite éducative - CTREQ - 11 mai 2011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0640-FAA9-4826-81B0-8892C3B19D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0663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8a9"/>
                </a:solidFill>
                <a:latin typeface="Arial"/>
              </a:rPr>
              <a:t>Merci 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accessavoirs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ctreq.qc.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rire.ctreq.qc.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pied de page 3"/>
          <p:cNvSpPr/>
          <p:nvPr/>
        </p:nvSpPr>
        <p:spPr>
          <a:xfrm>
            <a:off x="46836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FAS – Boutique de sciences en réussite éducative - CTREQ - 11 mai 2011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Espace réservé du pied de page 3"/>
          <p:cNvSpPr/>
          <p:nvPr/>
        </p:nvSpPr>
        <p:spPr>
          <a:xfrm>
            <a:off x="46836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FAS – Boutique de sciences en réussite éducative - CTREQ - 11 mai 2011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E92E-E23B-4019-9F71-BAA1544C3E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99324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8a9"/>
                </a:solidFill>
                <a:latin typeface="Arial"/>
              </a:rPr>
              <a:t>Idée d’une boutique de scien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xte de Florence Piron, chercheuse dans une production de l’INM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Aux sciences citoyens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ssemblée générale annuelle du CTRE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30 septembre 20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vitée : Florence Pir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te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Espace réservé du pied de page 3"/>
          <p:cNvSpPr/>
          <p:nvPr/>
        </p:nvSpPr>
        <p:spPr>
          <a:xfrm>
            <a:off x="46836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FAS – Boutique de sciences en réussite éducative - CTREQ - 11 mai 2011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DDC7-33C2-49E3-955E-0D2725FD42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99324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8a9"/>
                </a:solidFill>
                <a:latin typeface="Arial"/>
              </a:rPr>
              <a:t>C’est quoi Accès savoirs?</a:t>
            </a:r>
            <a:br>
              <a:rPr sz="3600"/>
            </a:br>
            <a:r>
              <a:rPr b="1" lang="fr-FR" sz="3600" spc="-1" strike="noStrike">
                <a:solidFill>
                  <a:srgbClr val="0078a9"/>
                </a:solidFill>
                <a:latin typeface="Arial"/>
              </a:rPr>
              <a:t>Dans l’ensemble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oi: Médiatrice entre la société civile et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’université La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ccueillir les demandes de la société civ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ribuer à traduire les demandes en question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recherche ou en problématiques scientif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i: Réponse aux demandes par des étudiants recrutés dans tous les cyc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aliser les mandats avec super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E61A-985C-4446-9FEB-87DE8C2B51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282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8a9"/>
                </a:solidFill>
                <a:latin typeface="Arial"/>
              </a:rPr>
              <a:t>Caractéristiques distinc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éponse aux demandes de connaissance ou d’expertise de la société civ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mension participative et collaborative du processus de construction des savo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ervices offerts gratuitement aux organisations à but non lucrat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space réservé du pied de page 3"/>
          <p:cNvSpPr/>
          <p:nvPr/>
        </p:nvSpPr>
        <p:spPr>
          <a:xfrm>
            <a:off x="468360" y="623736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FAS – Boutique de sciences en réussite éducative - CTREQ - 11 mai 2011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E019-041F-46C6-9A0C-3BED81E83D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282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8a9"/>
                </a:solidFill>
                <a:latin typeface="Arial"/>
              </a:rPr>
              <a:t>Étapes franch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303640"/>
            <a:ext cx="82296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érifications de besoins auprès de certains grou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éparation du lancement (site, dépliant, communiqué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ncement d’Accès savoirs le 4 avril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ntatives d’arrim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space réservé du pied de page 3"/>
          <p:cNvSpPr/>
          <p:nvPr/>
        </p:nvSpPr>
        <p:spPr>
          <a:xfrm>
            <a:off x="46836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FAS – Boutique de sciences en réussite éducative - CTREQ - 11 mai 2011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F9A1-4A3C-44E3-9904-7B07C1EFF7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282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8a9"/>
                </a:solidFill>
                <a:latin typeface="Arial"/>
              </a:rPr>
              <a:t>Lancement 4 avril 201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270792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pied de page 3"/>
          <p:cNvSpPr/>
          <p:nvPr/>
        </p:nvSpPr>
        <p:spPr>
          <a:xfrm>
            <a:off x="46836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FAS – Boutique de sciences en réussite éducative - CTREQ - 11 mai 2011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755640" y="1916280"/>
            <a:ext cx="7272360" cy="4373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9350-BC6C-4355-B1B8-4000001D43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282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8a9"/>
                </a:solidFill>
                <a:latin typeface="Arial"/>
              </a:rPr>
              <a:t>Site d’Accès savoi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303640"/>
            <a:ext cx="82296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Espace réservé du pied de page 3"/>
          <p:cNvSpPr/>
          <p:nvPr/>
        </p:nvSpPr>
        <p:spPr>
          <a:xfrm>
            <a:off x="46836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FAS – Boutique de sciences en réussite éducative - CTREQ - 11 mai 2011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2"/>
          <a:stretch/>
        </p:blipFill>
        <p:spPr>
          <a:xfrm>
            <a:off x="-900000" y="0"/>
            <a:ext cx="10872720" cy="7448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9F27-79FF-4A3F-91DC-DE37ADA8D8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0663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8a9"/>
                </a:solidFill>
                <a:latin typeface="Arial"/>
              </a:rPr>
              <a:t>Processus en génér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ormulation d’une demande par une organisation sur le s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nalyse et traitement par les responsables de la boutique des sci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ssociation d’un responsable scientifique (professeur) et d’un étudiant à la dem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ravail effectué par un étudiant, en collaboration avec l’organisation demandeuse (rencont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ffusion des résultats (format et langage appropri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space réservé du pied de page 3"/>
          <p:cNvSpPr/>
          <p:nvPr/>
        </p:nvSpPr>
        <p:spPr>
          <a:xfrm>
            <a:off x="46836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FAS – Boutique de sciences en réussite éducative - CTREQ - 11 mai 2011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3:47:19Z</dcterms:created>
  <dc:creator>bci07</dc:creator>
  <dc:description/>
  <dc:language>en-US</dc:language>
  <cp:lastModifiedBy>Mélissa</cp:lastModifiedBy>
  <dcterms:modified xsi:type="dcterms:W3CDTF">2011-05-25T01:35:54Z</dcterms:modified>
  <cp:revision>364</cp:revision>
  <dc:subject/>
  <dc:title>Slide 1</dc:title>
</cp:coreProperties>
</file>